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92D0-9A55-4BF6-BB3C-75B8A9D1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31B8-DCDD-4484-BB24-02F673B9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ABC7-5D2D-466F-92A8-9A3EC755B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9BC2-E330-4B59-9FFD-A6555898D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4A3A-A88F-4EA8-A2A3-196B5419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4A34-09BA-4A65-B264-E77CCDF6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DD1A-8098-4B64-ABDA-23A6DFD0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AD8E-DB49-4B90-BB3D-C61A5937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6316-13A5-4BEF-AE31-C27A5D04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3846-4041-47F6-8E6A-B5226520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0BF5-7148-463B-A9C2-C4FEA70C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C40E-FCF4-4B0A-970C-64527DFB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13A4-D316-4CA5-A58D-0EC1C2B8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84D0-A4F8-4D84-B8EA-490B95C8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F5DD-065D-4087-8050-08B37658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8405-C57A-46A3-8EFC-7127D1E7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54DD-AF15-4D1B-9345-C618773DE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2E02-9F99-44DA-827F-F5368139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019E-C43B-459D-9F55-1C410C90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7283-2BEB-4C44-9D1C-6D90557B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FE19-1C77-4D69-B640-7C7A40D6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48DD-6A87-4723-A2E1-E3ACED00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0B52-0023-4F5F-B6BE-7B0977D1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1B13-525B-4898-B5B4-5F48DC9A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D644-3A64-4766-82E4-461E6AE9FB1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F4A5-5AC9-493E-8C52-3E52C99B754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mava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am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ar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340000" y="836640"/>
            <a:ext cx="4680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OTIMPURI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imavar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63640" y="1700280"/>
            <a:ext cx="5688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ar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583236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oamn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348000" y="1700280"/>
            <a:ext cx="33148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arn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619280" y="1700280"/>
            <a:ext cx="590544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18:59:47Z</dcterms:created>
  <dc:creator>AS</dc:creator>
  <dc:description/>
  <dc:language>en-US</dc:language>
  <cp:lastModifiedBy>AS</cp:lastModifiedBy>
  <dcterms:modified xsi:type="dcterms:W3CDTF">2010-01-05T19:40:13Z</dcterms:modified>
  <cp:revision>5</cp:revision>
  <dc:subject/>
  <dc:title>Diapozitivul 1</dc:title>
</cp:coreProperties>
</file>